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800-F834-4E62-A094-2E6FD1543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f the proposed methodology suggests that 22% of services on mixed material networks are metallic, compared with the original one-third assumption. A reduction in this is to be expected as the majority of new services and services connected to replaced mains will be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ing rates based on most common type – we are currently reviewing actual equipment on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pressure assumed to be 70psi (4 Barg); venting rate assumed to be linear with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d 25% uplift to account for non-steady state emiss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lic mains tend to have a mixture of Steel and P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eel services may have been ‘replaced’ following gas esc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 mains have predominantly PE services. Current policy is to not reconnect steel services; however, historically, a steel service could be reconnected if, after testing, it was found not to be le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PE mains have a zero leakage rate; however, propose to use the proportions identified from the 2002/03 NLT to allocate these in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s deemed to be representative of existing plastic service connections to metallic 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lays deemed to be representative of existing metallic service connections to metallic 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years RRP data reflects the replacement of 6,200km of metallic main, there is currently 43,000km metallic main rem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number of services is assumed to be the total number of meter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087-EFF8-4910-BCCF-10E3DEEB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67E-17CC-4357-B394-C17D600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763-9939-41A7-820D-4E7DB67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EB6-7044-4449-8102-B2D26209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500-CBB3-42C5-B750-EDD4E0A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A40-2FC7-4D30-9F47-A40037F3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DB8B-1129-4A44-8953-03435D5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3D8-DC15-46CA-8483-23EB257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C24-CCCE-42D3-9B8C-067C4925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A4D3-31AC-493D-8866-61B18E1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F81-497F-4F04-AE4A-40134D86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4CF-9AE6-4809-9E67-0D1145DE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C86-6EFE-470F-AB4D-52AA1231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507-6CAD-4F74-A07A-848A556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50B4-3CAB-4011-9C7A-E4D12C3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49B-EDFB-4F0E-B7F6-840C8CEA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0038-2017-4FFC-AAFC-6E796063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22B-B2F2-4628-B432-C88D7118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1D7-AD26-420E-A6C0-A27794F6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534-36F8-4F2F-AA89-50C3624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485-990C-4BD2-8BF7-C8E3106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412-1530-4029-9876-07E8CE2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688-FE1B-4619-85C5-A21C6C8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D92-196B-4DB3-9D07-8E44821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4A8-3530-4EA2-A82F-BDE5263658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320" y="6381720"/>
            <a:ext cx="21337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C85-42B8-482E-BB5B-558878912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4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46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68580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048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580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0048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28880" y="3216240"/>
            <a:ext cx="1439640" cy="12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 your chosen image here. The four corners must just cover the arrow tips. For covers, the three pictures should be the same size and in a straight line.   </a:t>
            </a:r>
            <a:endParaRPr b="1" lang="en-US" sz="10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4FF-1841-45A2-8EA7-DFFA987CF5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4B8-95F0-46A2-B31C-D0ED7132C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92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133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algn="ctr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23880" algn="ctr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9c1"/>
                </a:solidFill>
                <a:latin typeface="Arial"/>
              </a:rPr>
              <a:t>Leakage Model Development Proposals</a:t>
            </a:r>
            <a:br>
              <a:rPr sz="2400"/>
            </a:br>
            <a:r>
              <a:rPr b="1" lang="en-GB" sz="2400" spc="-1" strike="noStrike">
                <a:solidFill>
                  <a:srgbClr val="0079c1"/>
                </a:solidFill>
                <a:latin typeface="Arial"/>
              </a:rPr>
              <a:t>– Shrinkage Forum Discussion</a:t>
            </a:r>
            <a:endParaRPr b="1" lang="en-US" sz="24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71680" y="2882880"/>
            <a:ext cx="8043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dnesday 14 December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Impact on Leakage Assessmen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93640" y="1486080"/>
          <a:ext cx="8089920" cy="4887720"/>
        </p:xfrm>
        <a:graphic>
          <a:graphicData uri="http://schemas.openxmlformats.org/drawingml/2006/table">
            <a:tbl>
              <a:tblPr/>
              <a:tblGrid>
                <a:gridCol w="1619280"/>
                <a:gridCol w="1527120"/>
                <a:gridCol w="2387880"/>
                <a:gridCol w="1206360"/>
                <a:gridCol w="1349280"/>
              </a:tblGrid>
              <a:tr h="580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Z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/11 Leakage GWh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Model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ed Model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7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1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67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78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9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1" lang="en-US" sz="24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BD5-1697-43FE-830A-9C21458757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– Metallic service propor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  (mixed material networks)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65440" y="2573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93640" y="1486080"/>
          <a:ext cx="8082000" cy="4606920"/>
        </p:xfrm>
        <a:graphic>
          <a:graphicData uri="http://schemas.openxmlformats.org/drawingml/2006/table">
            <a:tbl>
              <a:tblPr/>
              <a:tblGrid>
                <a:gridCol w="3294000"/>
                <a:gridCol w="4788000"/>
              </a:tblGrid>
              <a:tr h="12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l Service Proportion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ional Grid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%</a:t>
                      </a: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770-5FD3-4181-8F8E-8B758DC82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Benefit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opulation assumptions are more up-to-date and Networ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estimate of forward leakage reduction associated with service replacement, as PE transfers taken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9E4-D218-4BA8-8369-E3ADF215DC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Current Model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xed’ values based on a 1994 Watt Committee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value apportioned across LDZs at time of Network S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ly 5% of over all e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D26-E9BE-4FBA-9A84-1ECD1863EA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Background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routinely venting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ing occurs both in steady state and during control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AGI usually has a number of Positioners and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oners and Controllers originally designed to work with compressed air but modified to work with gas, as readily available 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150-8FAC-4C96-83E3-9871A05548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Pneumatic Control Mechanism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340000" y="1521000"/>
            <a:ext cx="487692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E2B-C539-4164-9530-545CDAAC08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Proposal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anufacturers published data to estimate steady state ven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emissions used in operation difficult to estimate, as depends on number of control actions. Propose a 25% uplift to reflect non-steady state e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operating pressure 70psi (4 Bar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specific pressure may be difficult to 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145-0CA3-43E4-9014-054B3B8856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– National Grid Estimate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93640" y="1486080"/>
          <a:ext cx="8089920" cy="5329080"/>
        </p:xfrm>
        <a:graphic>
          <a:graphicData uri="http://schemas.openxmlformats.org/drawingml/2006/table">
            <a:tbl>
              <a:tblPr/>
              <a:tblGrid>
                <a:gridCol w="954000"/>
                <a:gridCol w="846360"/>
                <a:gridCol w="1095480"/>
                <a:gridCol w="1011240"/>
                <a:gridCol w="907920"/>
                <a:gridCol w="909720"/>
                <a:gridCol w="774720"/>
                <a:gridCol w="1590480"/>
              </a:tblGrid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ady state  venting rate (scf/m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cified operating pressure (psi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d mean NG operating pressure (psi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ing rate per device (scm/day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 number of units on site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venting rate (scm/yr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d 25% increase due to non steady state conditions (scm/yr/site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oners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8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56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,70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ollers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652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,56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,212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26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Z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Sites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imated Venting (scm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act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ed Model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Model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(scm)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33,71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34,601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,891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29,54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53,09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76,45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19,50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56,868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,637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63,25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17,70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45,54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38,44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65,02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26,575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384,450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27,284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57,166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GWh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1" lang="en-US" sz="12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10A-AED8-4A81-87A8-E90E15366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GI Venting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Summary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AGI venting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, therefore, no incentive to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pecific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incentive to reduce v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teady state venting difficult to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included for completeness of Shrinkage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inappropriate to form part of an ince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291-2BF0-41A8-9959-FF38B99D60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Benefits of Proposal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riteria for the Leak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Rob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cts Network specific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B9D-DFA2-4579-BE31-B317493B6A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Proposal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roposed changes to the National Leakage Model to improve i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low pressure service population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AGI Venting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D00-BA08-4C26-B4F1-A698D703F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Next Steps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Consultation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on changes – January/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Day Consultation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needs to be independently assessed –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 Noble Denton were selected via a competitive tender for the previous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5FE-1589-4383-99AC-D7957BEAFC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Next Steps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– Implementation Option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in current Price Contro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to amend Environmental Emissions Bas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applicable to 2011/12 and 2012/13 leakage assessments and Shrinkag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in RIIO GD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 would include estimated impact of proposed 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CEC-46B8-4FA5-952B-5E80A8CFDC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Why are we proposing these modifications now?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s have to submit final business plans for RIIO-GD1 in April 2012. These will include our leakage proj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believe the proposed modifications provide for a more accurate and robust estimation of leakage and that these should be reflected in the baseline allow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urrent Transporter Licence requires Transporters to consult on modifications to the leakage model; this process takes two-three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EA1-6131-4E61-8BF5-8C12F076C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Background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5257800" y="1486080"/>
          <a:ext cx="28814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486080"/>
                    <a:ext cx="28814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 txBox="1"/>
          <p:nvPr/>
        </p:nvSpPr>
        <p:spPr>
          <a:xfrm>
            <a:off x="593280" y="3886200"/>
            <a:ext cx="39690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Metallic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 of Steel and P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 Service Leakage Rate 10.6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.a. p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Service Leakage Rate 2.2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.a. p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714920" y="3886200"/>
            <a:ext cx="39686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ing PE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dominantly PE Services (est 9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 and Steel connections to PE mains found not to leak (2002/03 National Leakage Te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Rectangle 3"/>
          <p:cNvGraphicFramePr/>
          <p:nvPr/>
        </p:nvGraphicFramePr>
        <p:xfrm>
          <a:off x="1136520" y="1486080"/>
          <a:ext cx="2881440" cy="22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486080"/>
                    <a:ext cx="28814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002-DF35-4A88-AEB8-58CE026C7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Mains Replacemen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3640" y="4723920"/>
            <a:ext cx="80899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s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service connections ‘re-laid’ in PE and connected to new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service connections ‘transferred’ to new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Rectangle 3"/>
          <p:cNvGraphicFramePr/>
          <p:nvPr/>
        </p:nvGraphicFramePr>
        <p:xfrm>
          <a:off x="2027160" y="1486080"/>
          <a:ext cx="5222880" cy="32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486080"/>
                    <a:ext cx="522288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181-BAB3-4505-84F9-B31F5087C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Current Model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3640" y="1486080"/>
            <a:ext cx="80899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938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of Metallic Services determined using the original model applied up to 2006/07 (the year used to establish GDPCR1 baselin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938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.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replaced services deducted from starting val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063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al mode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 population assumptions date back to early 1990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assumption in original model is that a fixed proportion (one-third) of all services on mixed material networks are metal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tion replacement of services from early 1990s to 2006/07 not reflected in 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1063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ational assumption, i.e. same service population assumption for each LDZ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670-14C6-4B7B-ADA2-171CABB56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- Proposed Model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method of estimating the number of PE and Stee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latest service ‘Re-lay’ and ‘Transfer’ data associated with mains replacement to estimate current population of metallic and plastic services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data from mains replacement work as representative of population as a w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No. services per km of metallic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 to use three years mains replacement data to provide robust sample (6000km in comparison to 43,000km remaining for National Gr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 a new Network specific baseline service population for 2010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Aft>
                <a:spcPts val="938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in the current model, no. of replaced services deducted from ‘Steel Service to Metal Main’ start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Aft>
                <a:spcPts val="876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no. of transferred services deducted from ‘PE Service to Metal Main’ start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CDE-755D-4D0B-B358-2E6E1E9B7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3640" y="-92880"/>
            <a:ext cx="61502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– Number of Transfers and Re-lay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3640" y="1486080"/>
          <a:ext cx="8089920" cy="460512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349280"/>
                <a:gridCol w="1347840"/>
              </a:tblGrid>
              <a:tr h="92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/09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/10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/1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 Weighted Avg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f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km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o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lay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km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oE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W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1" lang="en-US" sz="1800" spc="-1" strike="noStrike">
                        <a:solidFill>
                          <a:srgbClr val="0079c1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1E4-06EE-49D8-8903-0DE5FA2DA7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3640" y="333720"/>
            <a:ext cx="6150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Low Pressure Service Modification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– How will this work?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for East of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to Metallic Mai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Service connections to metallic mains = Re-lay Rate (42/km) x length of metallic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Service connections to metallic mains = Transfer Rate (44/km) x length of metallic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to PE mains = Total Number of Services – Connections to Metallic 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Service connections to PE Mains = 98% x Connections to PE 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Service connections to PE Mains = 2% x Connections to PE 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8B1-6B01-4868-800B-C88ED0B75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0:41:50Z</dcterms:created>
  <dc:creator>roy.i.malin</dc:creator>
  <dc:description/>
  <dc:language>en-US</dc:language>
  <cp:lastModifiedBy>roy.i.malin</cp:lastModifiedBy>
  <cp:lastPrinted>2010-07-28T13:37:48Z</cp:lastPrinted>
  <dcterms:modified xsi:type="dcterms:W3CDTF">2011-12-05T15:26:51Z</dcterms:modified>
  <cp:revision>35</cp:revision>
  <dc:subject/>
  <dc:title>Shrinkage Forum</dc:title>
</cp:coreProperties>
</file>